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2909-A54A-4482-AD59-90B5ACFFD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BBD9-1D90-4733-8E70-B6C24650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BECC-C1A6-41A7-9943-2A6E2A926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CF53-77CD-4DBC-A85C-65B987FFB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0957-E4F3-4B28-9F24-EE69AA6E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0746-1BD3-4A33-BB8A-FBD30240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F8E3-372B-4C08-AC45-0FC07A83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752A-E9F1-4FDD-A0A8-507BFFAE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CC65-79B1-466F-9A82-5607B847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01BE-E956-4700-8883-EE82EE51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DA3C-CC5B-4F6D-9FDC-15753BFB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D735-55F2-4E35-8F37-157A9AD2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EBAF-5E43-4E39-BBE2-04EDB7BCA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505320" y="609480"/>
            <a:ext cx="2019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our school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657600" y="5334120"/>
            <a:ext cx="2057400" cy="11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y Trista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3" name="logo1" descr=""/>
          <p:cNvPicPr/>
          <p:nvPr/>
        </p:nvPicPr>
        <p:blipFill>
          <a:blip r:embed="rId3"/>
          <a:stretch/>
        </p:blipFill>
        <p:spPr>
          <a:xfrm>
            <a:off x="3276720" y="2154240"/>
            <a:ext cx="274320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Teac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.Willi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.S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.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.Dav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.At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.Robi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.Th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.Ro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.J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.Har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.Math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.J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.Dix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sch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ur school is Glenbo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a primary sch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9:04:15Z</dcterms:created>
  <dc:creator>4glenb2</dc:creator>
  <dc:description/>
  <dc:language>en-US</dc:language>
  <cp:lastModifiedBy>4glenb2</cp:lastModifiedBy>
  <dcterms:modified xsi:type="dcterms:W3CDTF">2009-09-30T09:07:09Z</dcterms:modified>
  <cp:revision>1</cp:revision>
  <dc:subject/>
  <dc:title>PowerPoint Presentation</dc:title>
</cp:coreProperties>
</file>